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499B-8CF9-452E-B316-BAE943EC5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EB5F-2A6C-4793-AEB9-4D0A1ADD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06E6-138B-4049-B640-B54CDB3A8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0F31-7051-4974-B7F2-EAD98CE07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D78A-D4D5-406D-800E-230116CBE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D93D-F140-42EE-8F31-8A10F05A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19FD-BCEF-4DF9-85C8-26DF26D9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6758-9CFE-4391-8688-E748CA18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D428-C698-4670-A878-95E9C425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CD01-DE1C-46A8-8FAF-8B0D07CD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E02E-33E0-4258-884A-B62123B8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95D6-CC46-44BB-989C-1BBB012E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EF55-68C9-45AA-9C67-F09A281F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8FCE-161F-4FA6-B9CC-EDA0E6DC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AE6A-5E7E-4801-B398-C959C925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8F4C-1D29-468C-A402-16175A390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4AE8-9978-47DC-8FAD-00DE4E004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4B3706-2791-4625-8D29-1A96CB278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1E48D6-43E2-4F04-9E9F-3CAFF5DD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B290D2-FC5D-4C07-BA1E-506967CA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C1C6D1-6D9D-4C14-9368-2C0E8A43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A128A2-76DF-4E8D-AA30-C4E3CAE7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14AF-97B0-4D86-BE9C-EE128916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5DA592-F978-4D3A-BAD8-FDA64B96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D9647F-E981-4FD0-BCFA-1375F106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F30CA3-BA46-4E61-85ED-3E651EDB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13F0DF-8407-4BF2-9C33-C4C937DD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371F54-6B03-4E07-8420-EA4C4EDF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C76DA9-ED49-411F-8822-3968F1561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81EA26-BE02-4B2C-B44B-EAF04A43A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A9C28-3B79-418E-90AC-AAA59CA3C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7388A-08ED-4673-B43D-1B2B618B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C3D37-7875-4802-9889-4BC809A5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D18B-FA53-4BE6-996B-94E45FB0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1BAEA-3141-4F79-A9E1-16269AE0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D1E13-9941-41BF-8414-E4BF8964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DCDD8-825C-4755-9CAF-75B187A2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8F30A-5F48-4855-A35A-CC44EA38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A16C3-C86C-48A1-84AA-2A4F8CDA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D4885-709C-4ADE-B694-021A236A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31BEE-4EFA-4110-8778-AD394476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176EC-C59F-40D4-8C60-DEAC6757E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075CC-6F69-458D-AAED-0ABFE0E96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146F-8A2E-4973-8D41-0EF0D630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E970-72D0-4CBA-825D-41D2CB5F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C62F-6F73-4785-AD1E-3C065C2F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96BF-432D-4810-A506-AE889E94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A008-C873-47E3-A4AB-27C638DA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9A7B-56BA-4363-B4F5-0E867D770645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3D8A-CA6B-4030-ADCD-A0009FCFFBF7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05A8-8BDD-43D6-A64D-8A8F02DDA0C1}" type="datetime3"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July 30,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07AF-230D-4863-9536-68BC912D3D74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98BB-BB51-4FB1-92E8-129D14D82C74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4562-F930-4960-A5EC-77D6A8DCCBD2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AB01-49B1-4B08-ADF0-5188BF044A0E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F1D2-E5C6-4AF1-9F09-693315440BF5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Calligrammes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Comme quelques poèmes de Guillaume Apollinaire</a:t>
            </a: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	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La Cravate 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042560" y="2323800"/>
            <a:ext cx="677700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39" name="Picture 5" descr=""/>
          <p:cNvPicPr/>
          <p:nvPr/>
        </p:nvPicPr>
        <p:blipFill>
          <a:blip r:embed="rId1"/>
          <a:stretch/>
        </p:blipFill>
        <p:spPr>
          <a:xfrm>
            <a:off x="2895480" y="2314440"/>
            <a:ext cx="2403720" cy="36547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"/>
          <p:cNvPicPr/>
          <p:nvPr/>
        </p:nvPicPr>
        <p:blipFill>
          <a:blip r:embed="rId2"/>
          <a:stretch/>
        </p:blipFill>
        <p:spPr>
          <a:xfrm>
            <a:off x="5692680" y="819000"/>
            <a:ext cx="1670040" cy="21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94c600"/>
                </a:solidFill>
                <a:uFillTx/>
                <a:latin typeface="Century Gothic"/>
              </a:rPr>
              <a:t>La Cravate </a:t>
            </a:r>
            <a:r>
              <a:rPr b="0" lang="en-US" sz="2200" spc="-1" strike="noStrike">
                <a:solidFill>
                  <a:srgbClr val="94c600"/>
                </a:solidFill>
                <a:latin typeface="Century Gothic"/>
              </a:rPr>
              <a:t>est le poème par Apollinaire que nous avons étudié.  Voilà un autre calligramme avec un dessin.</a:t>
            </a:r>
            <a:endParaRPr b="0" lang="en-US" sz="2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e3d2d"/>
                </a:solidFill>
                <a:uFillTx/>
                <a:latin typeface="Century Gothic"/>
              </a:rPr>
              <a:t>Madelein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3" name="Picture 6" descr=""/>
          <p:cNvPicPr/>
          <p:nvPr/>
        </p:nvPicPr>
        <p:blipFill>
          <a:blip r:embed="rId1"/>
          <a:stretch/>
        </p:blipFill>
        <p:spPr>
          <a:xfrm>
            <a:off x="3195720" y="2324160"/>
            <a:ext cx="35370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65080" y="3687480"/>
            <a:ext cx="2479680" cy="163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le miroir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Content Placeholder 4" descr=""/>
          <p:cNvPicPr/>
          <p:nvPr/>
        </p:nvPicPr>
        <p:blipFill>
          <a:blip r:embed="rId1"/>
          <a:srcRect l="0" t="3052" r="2745" b="4900"/>
          <a:stretch/>
        </p:blipFill>
        <p:spPr>
          <a:xfrm>
            <a:off x="3459240" y="1027080"/>
            <a:ext cx="4608360" cy="49258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"/>
          <p:cNvPicPr/>
          <p:nvPr/>
        </p:nvPicPr>
        <p:blipFill>
          <a:blip r:embed="rId2"/>
          <a:stretch/>
        </p:blipFill>
        <p:spPr>
          <a:xfrm>
            <a:off x="865080" y="888840"/>
            <a:ext cx="208908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98560" y="1026720"/>
            <a:ext cx="356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Les œuvres par des élèves: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8" name="Content Placeholder 5" descr="cœur brisé.pdf"/>
          <p:cNvPicPr/>
          <p:nvPr/>
        </p:nvPicPr>
        <p:blipFill>
          <a:blip r:embed="rId1"/>
          <a:srcRect l="2947" t="28643" r="0" b="29997"/>
          <a:stretch/>
        </p:blipFill>
        <p:spPr>
          <a:xfrm>
            <a:off x="2157480" y="2662200"/>
            <a:ext cx="62960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Le bandeau d’une élèv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0" name="Content Placeholder 3" descr="mon bandeau.pdf"/>
          <p:cNvPicPr/>
          <p:nvPr/>
        </p:nvPicPr>
        <p:blipFill>
          <a:blip r:embed="rId1"/>
          <a:srcRect l="2937" t="24522" r="3571" b="31269"/>
          <a:stretch/>
        </p:blipFill>
        <p:spPr>
          <a:xfrm>
            <a:off x="1243080" y="2170080"/>
            <a:ext cx="633564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Et maintenant – votre classe!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alligrammes!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réez vos poèmes aujourd’hui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artagez les votres demain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es vêtement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588240" indent="-25092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Des lunettes de solei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588240" indent="-25092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Un maillot de sport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588240" indent="-25092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Un complet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588240" indent="-25092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Un foulard                      etc. etc. etc.!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588240" indent="-250920" algn="r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Et le votre?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9T20:24:47Z</dcterms:created>
  <dc:creator>John Chapman</dc:creator>
  <dc:description/>
  <dc:language>en-US</dc:language>
  <cp:lastModifiedBy>edill</cp:lastModifiedBy>
  <dcterms:modified xsi:type="dcterms:W3CDTF">2013-06-14T19:57:35Z</dcterms:modified>
  <cp:revision>8</cp:revision>
  <dc:subject/>
  <dc:title>Calligrammes</dc:title>
</cp:coreProperties>
</file>